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077-17BB-41B0-BCC7-A01E18A9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F3E-4942-40D4-B66F-1CBEBC94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825-F4EA-4374-932B-5E0916AA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735-3E13-48CC-AC95-E93CF3E0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00E-1614-4C81-9D16-E888F155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41CC-D411-4A1F-BAD6-DD5C05A5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46D-3901-4E7C-B7DD-B4081B68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045-E6C6-4B25-8D1B-5B3CB554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6EE-5F9C-40BF-B15F-814A1963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C20-B47D-47D8-9BB9-63F6D935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747-2F40-4A65-9804-272704B3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8AE-2D1E-4417-808C-914E690D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4D73-C034-410B-9D2A-09EC98EBF7B8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352680" y="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1447920"/>
            <a:ext cx="9144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192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192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RATEGIE BRAND E LICEN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192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192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arco Turine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192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192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4038480"/>
            <a:ext cx="91440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.A.  2014-20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arco.turinetto@polimi.it</a:t>
            </a:r>
            <a:r>
              <a:rPr b="0" lang="it-IT" sz="1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352680" y="-3492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26760" y="32688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 rot="5400000">
            <a:off x="1665000" y="7272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 rot="5400000">
            <a:off x="1665000" y="9558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 rot="5400000">
            <a:off x="1665000" y="11844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 rot="16200000">
            <a:off x="-4706640" y="2957040"/>
            <a:ext cx="1074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LUSSO NECESS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870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602000" y="2151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2" descr="C:\Documents and Settings\Marco\Desktop\MARCO.12\LICENSING PHOTO\licensing-photo\barbieconcorsodentro.jpg"/>
          <p:cNvPicPr/>
          <p:nvPr/>
        </p:nvPicPr>
        <p:blipFill>
          <a:blip r:embed="rId1"/>
          <a:stretch/>
        </p:blipFill>
        <p:spPr>
          <a:xfrm>
            <a:off x="914400" y="1981080"/>
            <a:ext cx="7823160" cy="4064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352680" y="-3492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26760" y="32688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 rot="5400000">
            <a:off x="1665000" y="7272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 rot="5400000">
            <a:off x="1665000" y="9558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 rot="5400000">
            <a:off x="1665000" y="11844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 rot="16200000">
            <a:off x="-4984560" y="323676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BRAND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870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602000" y="2151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Immagine 1" descr=""/>
          <p:cNvPicPr/>
          <p:nvPr/>
        </p:nvPicPr>
        <p:blipFill>
          <a:blip r:embed="rId1"/>
          <a:stretch/>
        </p:blipFill>
        <p:spPr>
          <a:xfrm>
            <a:off x="1116000" y="1525680"/>
            <a:ext cx="7448400" cy="418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26"/>
          <p:cNvSpPr/>
          <p:nvPr/>
        </p:nvSpPr>
        <p:spPr>
          <a:xfrm>
            <a:off x="3352680" y="-3492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27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028"/>
          <p:cNvSpPr/>
          <p:nvPr/>
        </p:nvSpPr>
        <p:spPr>
          <a:xfrm>
            <a:off x="626760" y="32688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029"/>
          <p:cNvSpPr/>
          <p:nvPr/>
        </p:nvSpPr>
        <p:spPr>
          <a:xfrm rot="5400000">
            <a:off x="1665000" y="7272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030"/>
          <p:cNvSpPr/>
          <p:nvPr/>
        </p:nvSpPr>
        <p:spPr>
          <a:xfrm rot="5400000">
            <a:off x="1665000" y="9558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031"/>
          <p:cNvSpPr/>
          <p:nvPr/>
        </p:nvSpPr>
        <p:spPr>
          <a:xfrm rot="5400000">
            <a:off x="1665000" y="11844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032"/>
          <p:cNvSpPr/>
          <p:nvPr/>
        </p:nvSpPr>
        <p:spPr>
          <a:xfrm rot="16200000">
            <a:off x="-4706640" y="2957040"/>
            <a:ext cx="1074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LUSSO NECESS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033"/>
          <p:cNvSpPr/>
          <p:nvPr/>
        </p:nvSpPr>
        <p:spPr>
          <a:xfrm>
            <a:off x="3870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034"/>
          <p:cNvSpPr/>
          <p:nvPr/>
        </p:nvSpPr>
        <p:spPr>
          <a:xfrm>
            <a:off x="1602000" y="2151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1037" descr="C:\Documents and Settings\Marco\Desktop\MARCO.12\LICENSING PHOTO\licensing-photo\pirelli-p-zero.jpg"/>
          <p:cNvPicPr/>
          <p:nvPr/>
        </p:nvPicPr>
        <p:blipFill>
          <a:blip r:embed="rId1"/>
          <a:stretch/>
        </p:blipFill>
        <p:spPr>
          <a:xfrm>
            <a:off x="2057400" y="1295280"/>
            <a:ext cx="5486400" cy="497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352680" y="-3492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26760" y="32688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 rot="5400000">
            <a:off x="1665000" y="7272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 rot="5400000">
            <a:off x="1665000" y="9558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 rot="5400000">
            <a:off x="1665000" y="11844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 rot="16200000">
            <a:off x="-4984560" y="323676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BRAND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870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602000" y="2151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Immagine 1" descr=""/>
          <p:cNvPicPr/>
          <p:nvPr/>
        </p:nvPicPr>
        <p:blipFill>
          <a:blip r:embed="rId1"/>
          <a:stretch/>
        </p:blipFill>
        <p:spPr>
          <a:xfrm>
            <a:off x="1407960" y="1413000"/>
            <a:ext cx="6767640" cy="4964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352680" y="-3492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626760" y="32688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 rot="5400000">
            <a:off x="1665000" y="7272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 rot="5400000">
            <a:off x="1665000" y="9558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 rot="5400000">
            <a:off x="1665000" y="11844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 rot="16200000">
            <a:off x="-4984560" y="323676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STRATEGIE BR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70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1602000" y="2151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Immagine 1" descr=""/>
          <p:cNvPicPr/>
          <p:nvPr/>
        </p:nvPicPr>
        <p:blipFill>
          <a:blip r:embed="rId1"/>
          <a:stretch/>
        </p:blipFill>
        <p:spPr>
          <a:xfrm>
            <a:off x="1370160" y="1484280"/>
            <a:ext cx="6632280" cy="494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3352680" y="-3492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26760" y="32688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 rot="5400000">
            <a:off x="1665000" y="7272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 rot="5400000">
            <a:off x="1665000" y="9558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 rot="5400000">
            <a:off x="1665000" y="11844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 rot="16200000">
            <a:off x="-4984560" y="323676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LUSSO NECESS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870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1602000" y="2151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15" descr="C:\Documents and Settings\Marco\Desktop\MARCO.12\LICENSING PHOTO\licensing-photo\Ferrari-Store-Athens-2-500x333.jpg"/>
          <p:cNvPicPr/>
          <p:nvPr/>
        </p:nvPicPr>
        <p:blipFill>
          <a:blip r:embed="rId1"/>
          <a:stretch/>
        </p:blipFill>
        <p:spPr>
          <a:xfrm>
            <a:off x="1295280" y="1600200"/>
            <a:ext cx="7124760" cy="4746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352680" y="-3492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26760" y="32688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 rot="5400000">
            <a:off x="1665000" y="7272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 rot="5400000">
            <a:off x="1665000" y="9558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7"/>
          <p:cNvSpPr/>
          <p:nvPr/>
        </p:nvSpPr>
        <p:spPr>
          <a:xfrm rot="5400000">
            <a:off x="1665000" y="11844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 rot="16200000">
            <a:off x="-4984560" y="323676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STRATEGIE BR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3870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1602000" y="2151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2" descr="http://trendymen.ru/images/article1/117561/attachments/SPellegrino_2013.jpg"/>
          <p:cNvPicPr/>
          <p:nvPr/>
        </p:nvPicPr>
        <p:blipFill>
          <a:blip r:embed="rId1"/>
          <a:stretch/>
        </p:blipFill>
        <p:spPr>
          <a:xfrm>
            <a:off x="1665360" y="1430280"/>
            <a:ext cx="6361200" cy="4772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352680" y="-3492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26760" y="32688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 rot="5400000">
            <a:off x="1665000" y="7272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 rot="5400000">
            <a:off x="1665000" y="9558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10"/>
          <p:cNvSpPr/>
          <p:nvPr/>
        </p:nvSpPr>
        <p:spPr>
          <a:xfrm rot="5400000">
            <a:off x="1665000" y="11844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 rot="16200000">
            <a:off x="-4984560" y="323676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LUSSO NECESS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3870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1602000" y="2151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2" descr="http://www.kickswall.com/wp-content/uploads/2012/02/k-way-new-balance-420.jpg"/>
          <p:cNvPicPr/>
          <p:nvPr/>
        </p:nvPicPr>
        <p:blipFill>
          <a:blip r:embed="rId1"/>
          <a:stretch/>
        </p:blipFill>
        <p:spPr>
          <a:xfrm>
            <a:off x="1649520" y="1419120"/>
            <a:ext cx="6646680" cy="488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352680" y="-3492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26760" y="32688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 rot="5400000">
            <a:off x="1665000" y="7272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 rot="5400000">
            <a:off x="1665000" y="9558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 rot="5400000">
            <a:off x="1665000" y="11844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 rot="16200000">
            <a:off x="-4984560" y="323676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LUSSO NECESS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3870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602000" y="2151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11" descr="C:\Documents and Settings\Marco\Desktop\VESTIRE GLI ITALIANI\Chanel-presenta-gli-smalti-Les-Jeans.jpg"/>
          <p:cNvPicPr/>
          <p:nvPr/>
        </p:nvPicPr>
        <p:blipFill>
          <a:blip r:embed="rId1"/>
          <a:stretch/>
        </p:blipFill>
        <p:spPr>
          <a:xfrm>
            <a:off x="1258920" y="1463760"/>
            <a:ext cx="7383600" cy="470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352680" y="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626760" y="36180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 rot="5400000">
            <a:off x="1665000" y="7621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 rot="5400000">
            <a:off x="1665000" y="9907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7"/>
          <p:cNvSpPr/>
          <p:nvPr/>
        </p:nvSpPr>
        <p:spPr>
          <a:xfrm rot="5400000">
            <a:off x="1665000" y="12193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8"/>
          <p:cNvSpPr/>
          <p:nvPr/>
        </p:nvSpPr>
        <p:spPr>
          <a:xfrm rot="16200000">
            <a:off x="-4984560" y="327168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BRAND E LIC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600200" y="1492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L LICENSING: NUOVE OPPORTUNITA’ DI LAVO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870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1523880" y="2286000"/>
            <a:ext cx="731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l valore del brand e la sua coerenza progettuale portano ad un ampliamento delle merceologie di riferimento con prodotti sempre nuovi e sempre più distan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a logica conseguenza porta allo sviluppo di uffici marketing e centri stile in continuo diveni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Quindi nuovi posizioni per nuovi posti di lavo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352680" y="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626760" y="36180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 rot="5400000">
            <a:off x="1665000" y="7621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 rot="5400000">
            <a:off x="1665000" y="9907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 rot="5400000">
            <a:off x="1665000" y="12193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-4984560" y="327168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BRAND E LIC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600200" y="1492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SA SIGNIFICA «LICENSING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870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523880" y="2286000"/>
            <a:ext cx="7315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Il termine inglese licensing indica la </a:t>
            </a:r>
            <a:r>
              <a:rPr b="0" i="1" lang="it-IT" sz="1800" spc="-1" strike="noStrike">
                <a:solidFill>
                  <a:srgbClr val="ffffff"/>
                </a:solidFill>
                <a:latin typeface="Century Gothic"/>
              </a:rPr>
              <a:t>cessione temporanea per lo sfruttamento di un </a:t>
            </a:r>
            <a:r>
              <a:rPr b="1" i="1" lang="it-IT" sz="1800" spc="-1" strike="noStrike">
                <a:solidFill>
                  <a:srgbClr val="ffffff"/>
                </a:solidFill>
                <a:latin typeface="Century Gothic"/>
              </a:rPr>
              <a:t>marchio</a:t>
            </a:r>
            <a:r>
              <a:rPr b="0" i="1" lang="it-IT" sz="1800" spc="-1" strike="noStrike">
                <a:solidFill>
                  <a:srgbClr val="ffffff"/>
                </a:solidFill>
                <a:latin typeface="Century Gothic"/>
              </a:rPr>
              <a:t> (ma anche di un personaggio dei cartoon o dell’immagine di una persona reale)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Il titolare del diritto si chiama licenziante (licensor); chi acquisisce il temporaneo diritto di sfruttamento è il licenziatario (licensee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Il primo mette a disposizione il suo marchio, il secondo lo utilizza per </a:t>
            </a:r>
            <a:r>
              <a:rPr b="1" lang="it-IT" sz="1800" spc="-1" strike="noStrike">
                <a:solidFill>
                  <a:srgbClr val="ffffff"/>
                </a:solidFill>
                <a:latin typeface="Century Gothic"/>
              </a:rPr>
              <a:t>personalizzare la propria linea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 di prodot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352680" y="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26760" y="36180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 rot="5400000">
            <a:off x="1665000" y="7621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 rot="5400000">
            <a:off x="1665000" y="9907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 rot="5400000">
            <a:off x="1665000" y="12193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8"/>
          <p:cNvSpPr/>
          <p:nvPr/>
        </p:nvSpPr>
        <p:spPr>
          <a:xfrm rot="16200000">
            <a:off x="-4984560" y="327168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BRAND E LIC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1600200" y="1492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ETODOLOGIA DIDAT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870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1523880" y="228600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ES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rie di lezioni tenute dal corpo docente in cui verranno approfondite le diverse tematiche del cor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JECT 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plicazione della teoria attravers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Think-Tank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analisi e pianificazio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Concept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ideazione e strate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Design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progettazione dell’id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352680" y="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626760" y="36180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5"/>
          <p:cNvSpPr/>
          <p:nvPr/>
        </p:nvSpPr>
        <p:spPr>
          <a:xfrm rot="5400000">
            <a:off x="1665000" y="7621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 rot="5400000">
            <a:off x="1665000" y="9907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 rot="5400000">
            <a:off x="1665000" y="12193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8"/>
          <p:cNvSpPr/>
          <p:nvPr/>
        </p:nvSpPr>
        <p:spPr>
          <a:xfrm rot="16200000">
            <a:off x="-4984560" y="327168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BRAND E LIC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1600200" y="1492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ODALITA’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3870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1523880" y="2286000"/>
            <a:ext cx="731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FREQUEN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a frequenza alle lezioni è obbligatoria per meglio comprendere le tematiche e per poter interagire con il corpo docent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S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’esame consiste nella somma delle valutazioni sviluppate durante il corso attraverso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la presenza fisico/mentale al corso (partecipazione attiv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lo sviluppo dell’indag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lo sviluppo del project 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352680" y="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1447920"/>
            <a:ext cx="9144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192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192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RATEGIE BRAND E LICEN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192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192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arco Turine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192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192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0" y="4038480"/>
            <a:ext cx="91440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.A.  2014-20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arco.turinetto@polimi.it</a:t>
            </a:r>
            <a:r>
              <a:rPr b="0" lang="it-IT" sz="1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352680" y="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26760" y="36180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 rot="5400000">
            <a:off x="1665000" y="7621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 rot="5400000">
            <a:off x="1665000" y="9907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 rot="5400000">
            <a:off x="1665000" y="12193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 rot="16200000">
            <a:off x="-4984560" y="327168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BRAND E LIC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600200" y="1492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L LICENSING: DISCIPLINA TRASVERS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870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523880" y="2286000"/>
            <a:ext cx="731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l design nelle sue molteplici component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inter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advanc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prod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comunic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mo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ec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352680" y="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26760" y="36180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 rot="5400000">
            <a:off x="1665000" y="7621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 rot="5400000">
            <a:off x="1665000" y="9907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 rot="5400000">
            <a:off x="1665000" y="121932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 rot="16200000">
            <a:off x="-4984560" y="327168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BRAND E LIC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600200" y="1492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L LICENSING: NUOVI MERCATI  PER LE AZIE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870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1523880" y="228600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e strategie di intervento sul branding più innovative da adottare per i nuovi prodotti si possono sintettizzare attraverso la  scelta tr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estensione di linea o di ma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lancio di nuovi brand o subbr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allungamento della lin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completamento della lin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modernizzazione della lin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caratterizzazione della lin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semplificazione della lin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3352680" y="-3492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26760" y="32688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 rot="5400000">
            <a:off x="1665000" y="7272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 rot="5400000">
            <a:off x="1665000" y="9558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 rot="5400000">
            <a:off x="1665000" y="11844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 rot="16200000">
            <a:off x="-4984560" y="323676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STRATEGIE BR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870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602000" y="2151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Immagine 2" descr=""/>
          <p:cNvPicPr/>
          <p:nvPr/>
        </p:nvPicPr>
        <p:blipFill>
          <a:blip r:embed="rId1"/>
          <a:stretch/>
        </p:blipFill>
        <p:spPr>
          <a:xfrm>
            <a:off x="1139760" y="1341360"/>
            <a:ext cx="7093080" cy="468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352680" y="-3492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26760" y="32688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 rot="5400000">
            <a:off x="1665000" y="7272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 rot="5400000">
            <a:off x="1665000" y="9558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 rot="5400000">
            <a:off x="1665000" y="11844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 rot="16200000">
            <a:off x="-4523760" y="2774160"/>
            <a:ext cx="10744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LUSSO NECESS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870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1602000" y="2151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Immagine 2" descr=""/>
          <p:cNvPicPr/>
          <p:nvPr/>
        </p:nvPicPr>
        <p:blipFill>
          <a:blip r:embed="rId1"/>
          <a:stretch/>
        </p:blipFill>
        <p:spPr>
          <a:xfrm>
            <a:off x="846000" y="1889280"/>
            <a:ext cx="8028000" cy="3396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352680" y="-3492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26760" y="32688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 rot="5400000">
            <a:off x="1665000" y="7272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 rot="5400000">
            <a:off x="1665000" y="9558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 rot="5400000">
            <a:off x="1665000" y="11844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 rot="16200000">
            <a:off x="-4523760" y="2774160"/>
            <a:ext cx="10744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LUSSO NECESS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70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602000" y="2151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http://www.bagnoidea.com/img/newsimg/news_2607_im1.jpg"/>
          <p:cNvPicPr/>
          <p:nvPr/>
        </p:nvPicPr>
        <p:blipFill>
          <a:blip r:embed="rId1"/>
          <a:stretch/>
        </p:blipFill>
        <p:spPr>
          <a:xfrm>
            <a:off x="1484280" y="1533600"/>
            <a:ext cx="6783480" cy="456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352680" y="-3492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26760" y="32688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 rot="5400000">
            <a:off x="1665000" y="7272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 rot="5400000">
            <a:off x="1665000" y="9558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 rot="5400000">
            <a:off x="1665000" y="11844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 rot="16200000">
            <a:off x="-4984560" y="323676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STRATEGIE BR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870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602000" y="2151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Immagine 1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837480" cy="4557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352680" y="-34920"/>
            <a:ext cx="579132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626760" y="32688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entury Gothic"/>
              </a:rPr>
              <a:t>Marco Turin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 rot="5400000">
            <a:off x="1665000" y="7272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 rot="5400000">
            <a:off x="1665000" y="9558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 rot="5400000">
            <a:off x="1665000" y="1184400"/>
            <a:ext cx="7596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 rot="16200000">
            <a:off x="-4984560" y="323676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BRAND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870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602000" y="2151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Immagine 1" descr=""/>
          <p:cNvPicPr/>
          <p:nvPr/>
        </p:nvPicPr>
        <p:blipFill>
          <a:blip r:embed="rId1"/>
          <a:stretch/>
        </p:blipFill>
        <p:spPr>
          <a:xfrm>
            <a:off x="971640" y="2151000"/>
            <a:ext cx="7786440" cy="2851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9:58:24Z</dcterms:created>
  <dc:creator>mceli</dc:creator>
  <dc:description/>
  <dc:language>en-US</dc:language>
  <cp:lastModifiedBy>saturn</cp:lastModifiedBy>
  <dcterms:modified xsi:type="dcterms:W3CDTF">2014-09-09T08:38:07Z</dcterms:modified>
  <cp:revision>1737</cp:revision>
  <dc:subject/>
  <dc:title>Presentazione di PowerPoint</dc:title>
</cp:coreProperties>
</file>